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DEB-B8FB-4B2B-AE98-0EBA709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F31-B550-4BE9-929B-AC259BA9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FF1-E7C7-49FF-9AB8-7B29F168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5FC-4BD3-47D6-B436-21504E37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C980-8EBA-4B6A-B5EF-3087F44F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62E-C662-4C95-88B0-E131804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B512-3048-4D6D-8F1C-03887B9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041-CEA1-4F13-B53D-F3145AA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837-23C2-4435-80C3-9BBC03B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42B-7A3E-4E0B-86DC-08D60F4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8E62-D210-4415-BF5B-99BF1749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4ED-2660-4D4D-B7CD-9A50D08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75E-BA0D-49ED-AE3A-E34B9EE4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278-EB4E-4D36-A81C-1D63909B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651-BC3E-4E33-91E9-80DB9AF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649-2CC6-47A0-AAC3-3BF81D3B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30C1-6C5A-46AB-89CE-66C23017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BE4-389A-4CEF-BDC7-F674E5A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857-CD55-4B72-BAF1-7DBC70D1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97E-2885-4340-BBFB-8CB58E50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ECE-7714-4472-8DFE-D3B120A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774-D6F6-4D7B-8E02-7327A28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8CE-F0CC-43AD-8766-0665014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172-C120-40B9-B8C7-2F39014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F08C-8CE6-4D96-AD78-2235E4D0E87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7D5-8BB8-42EA-81ED-716C4511622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2480" y="3716280"/>
            <a:ext cx="5340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4941720"/>
            <a:ext cx="151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054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4c2b"/>
                </a:solidFill>
                <a:latin typeface="Times New Roman"/>
              </a:rPr>
              <a:t>Aplicação dos Recursos da Cobrança na Bacia do Paraíba do Su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Novembro/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27936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7936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43080" y="1676520"/>
            <a:ext cx="861048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3:  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R$5.800.000 (sem 3 meses CSN)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Situação atual: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Projetos /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Obras em contratação / execução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vênios ANA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 CEF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Municípios Beneficiados</a:t>
            </a:r>
            <a:br>
              <a:rPr sz="2400"/>
            </a:b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4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393480"/>
            <a:ext cx="659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333333"/>
                </a:solidFill>
                <a:latin typeface="Times New Roman"/>
              </a:rPr>
              <a:t>QUADRO DE APLICAÇÃO DE RECURSOS – COBRANÇA CONDOMINIAL – EXERCÍCIO DE 2003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880" y="5793840"/>
            <a:ext cx="7772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02120"/>
            <a:ext cx="861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Totalidade dos recursos empenhados no exercício de 200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Não foi possível a assinatura do contrato de Guaratinguetá e da obra emergencial de Barra Mansa com a CEF e os recursos foram perdi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controle de erosã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sgotos de Barra Mansa licitad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TE Muriaé concluído, obra hierarquizada em 2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esgotamento sanitári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2080" y="1550880"/>
          <a:ext cx="73836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550880"/>
                    <a:ext cx="73836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7520" y="1778040"/>
            <a:ext cx="8610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4: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$6.350.000 (Sem CSN)</a:t>
            </a: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Projetos/Obras em contratação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trato de Gestão ANA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Conta Corrente CEF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Investimentos AGEVAP  </a:t>
            </a:r>
            <a:r>
              <a:rPr b="1" lang="pt-BR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 CEF (2,2%)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de Gestão assinado em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Desembolso de recursos a partir de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Recursos repassados não retornam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82680" y="1397160"/>
          <a:ext cx="6166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1397160"/>
                    <a:ext cx="6166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55680" y="1422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brança aprovada pela Resolução 06/2003 do CERHI/RJ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de junho de 2003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é Lei 4247/2003 aprovada em dezembro de 2003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2004: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R$700.000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depositados no FUNDRHI (não sujeitos a contingenciamento ou esterilização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120" y="4560120"/>
            <a:ext cx="8547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4c2b"/>
                </a:solidFill>
                <a:latin typeface="Times New Roman"/>
              </a:rPr>
              <a:t>SISTEMÁTICA DE APLICAÇÃ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Convênio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Conta Corrente CEF (10% recursos)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10% Órgão Gestor (SERLA)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80% recursos Contrato/Convênios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Municípios ou executor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47480" y="228600"/>
            <a:ext cx="6743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25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5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91960" y="1181160"/>
            <a:ext cx="86108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mitê Guandu: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GT Comitê Guandu estuda proposta de cobrança altern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55680" y="1422360"/>
            <a:ext cx="86104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mitê Guandu: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nsiderando a existência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30:58Z</dcterms:created>
  <dc:creator>Formiga Johnsson</dc:creator>
  <dc:description/>
  <dc:language>en-US</dc:language>
  <cp:lastModifiedBy>SRH</cp:lastModifiedBy>
  <dcterms:modified xsi:type="dcterms:W3CDTF">2004-12-06T19:22:05Z</dcterms:modified>
  <cp:revision>318</cp:revision>
  <dc:subject>palestra panorama nacional reformas</dc:subject>
  <dc:title>Seminario1 UEG</dc:title>
</cp:coreProperties>
</file>